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7ED9-6A08-4D83-9966-7031384A7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770A-E216-445D-99C9-C3565216E7F6}" type="slidenum">
              <a:rPr b="0" lang="en-US" sz="1200" spc="-1" strike="noStrike">
                <a:solidFill>
                  <a:srgbClr val="d1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1981-7AEA-4F35-A4C3-AEFAD8FFA6BB}" type="slidenum">
              <a:rPr b="0" lang="en-US" sz="1200" spc="-1" strike="noStrike">
                <a:solidFill>
                  <a:srgbClr val="d1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452E-5E53-4E64-B243-3A3F6FCF61C0}" type="slidenum">
              <a:rPr b="0" lang="en-US" sz="1200" spc="-1" strike="noStrike">
                <a:solidFill>
                  <a:srgbClr val="d1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C03B-5D64-4B06-B5B1-FEFEC44A65C9}" type="slidenum">
              <a:rPr b="0" lang="en-US" sz="1200" spc="-1" strike="noStrike">
                <a:solidFill>
                  <a:srgbClr val="d1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B249-8A59-4ADB-808D-B993F6C84AE9}" type="slidenum">
              <a:rPr b="0" lang="en-US" sz="1200" spc="-1" strike="noStrike">
                <a:solidFill>
                  <a:srgbClr val="d1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ff4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286A-5277-4F89-9950-C2F8366B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7D37-54B7-425E-9300-112C4CBD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6196-D84B-4103-8E7E-4B9D77AB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3A2D-FAA2-411C-970D-11F33132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2155-9DB4-4F0F-9C41-63449939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EC5-1224-4267-AB51-80EC9E9D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A507-D4E4-47C6-A42C-9F4EB2B8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4FE4-5A5F-4A2F-8F8E-5F0F5719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CB88-70ED-4D0A-829B-AB59DC6F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BBD7-8256-4469-85C4-6629345A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7F32-E613-436B-A14C-6F5696F7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51A-C2E5-4CA8-BCC2-A1EF2FEF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1ff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1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1ff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1ff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1ff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1ff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ff4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11A9-FA2B-4E34-B904-42B6FE02D231}" type="slidenum">
              <a:rPr b="0" lang="en-US" sz="1400" spc="-1" strike="noStrike">
                <a:solidFill>
                  <a:srgbClr val="d1ff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olidays_in_Poland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Poland</a:t>
            </a: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By Noel and Ashlyn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d1ff47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 period 6</a:t>
            </a:r>
            <a:r>
              <a:rPr b="0" lang="en-US" sz="3200" spc="-1" strike="noStrike" baseline="30000">
                <a:solidFill>
                  <a:srgbClr val="d1ff47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 grade geography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Randolph school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Interesting Facts</a:t>
            </a:r>
            <a:br>
              <a:rPr sz="4000"/>
            </a:br>
            <a:endParaRPr b="0" lang="en-US" sz="40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apital is Warsaw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urrency is Zlotys,groszy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ife expectancy Female 79 Male 71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op is 38 million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anguage is Polish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irth rate 10.01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ath rate 9.99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ystem: democracy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Mountains</a:t>
            </a: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f47"/>
                </a:solidFill>
                <a:latin typeface="Arial"/>
              </a:rPr>
              <a:t>Tatra: 6,600 ft part of the Carpathian range</a:t>
            </a:r>
            <a:endParaRPr b="0" lang="en-US" sz="28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f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f47"/>
                </a:solidFill>
                <a:latin typeface="Arial"/>
              </a:rPr>
              <a:t>Beskeds:5,660 ft</a:t>
            </a:r>
            <a:endParaRPr b="0" lang="en-US" sz="28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f4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1ff47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266688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See full size image"/>
          <p:cNvPicPr/>
          <p:nvPr/>
        </p:nvPicPr>
        <p:blipFill>
          <a:blip r:embed="rId2"/>
          <a:stretch/>
        </p:blipFill>
        <p:spPr>
          <a:xfrm>
            <a:off x="914400" y="449568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Rivers and Lakes</a:t>
            </a: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1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Warta:502mi               -Sniardwy: Largest                           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Vistula:651mi              in Poland  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- one of the  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                                     </a:t>
            </a: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countries with the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                                     </a:t>
            </a: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most lakes                                                                   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4572000" y="1676520"/>
            <a:ext cx="0" cy="4495680"/>
          </a:xfrm>
          <a:prstGeom prst="line">
            <a:avLst/>
          </a:prstGeom>
          <a:ln w="9360">
            <a:solidFill>
              <a:srgbClr val="d1f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Clothing and Food</a:t>
            </a: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c0c"/>
                </a:solidFill>
                <a:latin typeface="Arial"/>
              </a:rPr>
              <a:t>4 meals a day                  Day to day clothing         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c0c"/>
                </a:solidFill>
                <a:latin typeface="Arial"/>
              </a:rPr>
              <a:t>rolls, butter, jam, tea        is similar to USA’s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c0c"/>
                </a:solidFill>
                <a:latin typeface="Arial"/>
              </a:rPr>
              <a:t>soup, stuffed meat, fish    except Cracow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c0c"/>
                </a:solidFill>
                <a:latin typeface="Arial"/>
              </a:rPr>
              <a:t>pork chops, cabbage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c0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c0c0c"/>
                </a:solidFill>
                <a:latin typeface="Arial"/>
              </a:rPr>
              <a:t>sandwiches, pastrys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>
            <a:off x="4724280" y="1676520"/>
            <a:ext cx="0" cy="4572000"/>
          </a:xfrm>
          <a:prstGeom prst="line">
            <a:avLst/>
          </a:prstGeom>
          <a:ln w="9360">
            <a:solidFill>
              <a:srgbClr val="d1f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 flipH="1">
            <a:off x="533160" y="1676520"/>
            <a:ext cx="4190760" cy="0"/>
          </a:xfrm>
          <a:prstGeom prst="line">
            <a:avLst/>
          </a:prstGeom>
          <a:ln w="9360">
            <a:solidFill>
              <a:srgbClr val="d1f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533520" y="1676520"/>
            <a:ext cx="0" cy="4647960"/>
          </a:xfrm>
          <a:prstGeom prst="line">
            <a:avLst/>
          </a:prstGeom>
          <a:ln w="9360">
            <a:solidFill>
              <a:srgbClr val="d1f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533520" y="6400800"/>
            <a:ext cx="4038480" cy="0"/>
          </a:xfrm>
          <a:prstGeom prst="line">
            <a:avLst/>
          </a:prstGeom>
          <a:ln w="9360">
            <a:solidFill>
              <a:srgbClr val="d1f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4572000" y="6400800"/>
            <a:ext cx="4572000" cy="0"/>
          </a:xfrm>
          <a:prstGeom prst="line">
            <a:avLst/>
          </a:prstGeom>
          <a:ln w="9360">
            <a:solidFill>
              <a:srgbClr val="d1f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4724280" y="1676520"/>
            <a:ext cx="4419720" cy="0"/>
          </a:xfrm>
          <a:prstGeom prst="line">
            <a:avLst/>
          </a:prstGeom>
          <a:ln w="9360">
            <a:solidFill>
              <a:srgbClr val="d1f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imals, Sports &amp; Music</a:t>
            </a: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ots of wild life         -Play the same sports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Tatra                        as USA.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north forests            -winter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summer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redric Chopin was   most popular sport is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famous composer     soccer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the 1800s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ike the same music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4495680" y="1600200"/>
            <a:ext cx="0" cy="4724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70" name="Straight Connector 7"/>
          <p:cNvSpPr/>
          <p:nvPr/>
        </p:nvSpPr>
        <p:spPr>
          <a:xfrm flipV="1">
            <a:off x="380880" y="3962520"/>
            <a:ext cx="411480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a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holidays</a:t>
            </a: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1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Most holidays are like ours but some are different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Polish air force day: August 31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Bibliography</a:t>
            </a: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92d050"/>
                </a:solidFill>
                <a:latin typeface="Arial"/>
              </a:rPr>
              <a:t>Websites                     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http://en.wikipedia.org/wiki/Poland</a:t>
            </a:r>
            <a:endParaRPr b="0" lang="en-US" sz="2400" spc="-1" strike="noStrike">
              <a:solidFill>
                <a:srgbClr val="d1ff47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4bf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Holidays_in_Poland</a:t>
            </a:r>
            <a:endParaRPr b="0" lang="en-US" sz="2400" spc="-1" strike="noStrike">
              <a:solidFill>
                <a:srgbClr val="d1ff47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ff47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f030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4bf030"/>
                </a:solidFill>
                <a:latin typeface="Arial"/>
              </a:rPr>
              <a:t>Books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f030"/>
                </a:solidFill>
                <a:latin typeface="Arial"/>
              </a:rPr>
              <a:t>Countries of the world Poland(p.7,13-21)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f03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4bf030"/>
                </a:solidFill>
                <a:latin typeface="Arial"/>
              </a:rPr>
              <a:t>by Suzanne paul Dell’Oro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f030"/>
                </a:solidFill>
                <a:latin typeface="Arial"/>
              </a:rPr>
              <a:t>Poland(p.110,132)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f03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4bf030"/>
                </a:solidFill>
                <a:latin typeface="Arial"/>
              </a:rPr>
              <a:t>by Martin Hintz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8:47:00Z</dcterms:created>
  <dc:creator>ashlynanderson and noelestopinal</dc:creator>
  <dc:description/>
  <dc:language>en-US</dc:language>
  <cp:lastModifiedBy>ashlynanderson and noelestopinal</cp:lastModifiedBy>
  <dcterms:modified xsi:type="dcterms:W3CDTF">2009-02-12T19:07:16Z</dcterms:modified>
  <cp:revision>9</cp:revision>
  <dc:subject/>
  <dc:title>Poland</dc:title>
</cp:coreProperties>
</file>